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линичка фармациј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ционална примена фармакотерапије код поремећаја дисањ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7640" y="4976640"/>
            <a:ext cx="651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ц. др Радиша Павл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Фенотипови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erg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aller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 –on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xed airflow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be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јчешће манифестаци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аљењске промене у дисајним путе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онхијална хипер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тивност, тј. патолошки измењена осетљивост на стимулу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Фактори р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0080" y="21337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стма је мултифакторијално условљена болест. За настанак, односно развој болести, као и за њено погоршање (егзацербацију) одговорна је интеракција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генетских 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2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Th1, ADAM33)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фактора спољне с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ле с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Чиниоце ризика за настанак астме (индукторе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) Чиниоце који доводе до настајања симптома или погоршавања астме (покрета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актори ризика за настанак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0080" y="1700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Најважн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Ат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топија се дефинише као генетска склоност ка алергијском реаговањ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2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gt; Th1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(тј. олакшаном стварању еозинофила и специфичн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E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антитела на алергене из окол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дређене врсте вируса (нпр. респираторни синцицијални вирус, риновируси, коронавируси и други), фаворизују настајање алергијске реакције, док друге врсте сузбијају алергијску реак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ечаци обољевају чешће од астме до пет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актори ризика за настанак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Доприносе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халаторни алерг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шење активно и паси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ерозагађење,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кућн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прашин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грињ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длак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кућних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љубима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спираторне инфекције (већа стимулација  имунског система  за одговор на вирусне инфекције него на алерге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лергени хране (јаја у првој години живота?), недостатак омега-3 масних киселин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вит Ц и Е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исхрани, конзерванси и вештачке бо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спирин и нестероидни антиреум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мена вр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чко зама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7"/>
          <p:cNvGrpSpPr/>
          <p:nvPr/>
        </p:nvGrpSpPr>
        <p:grpSpPr>
          <a:xfrm>
            <a:off x="5219640" y="4797360"/>
            <a:ext cx="3205080" cy="1079640"/>
            <a:chOff x="5219640" y="4797360"/>
            <a:chExt cx="3205080" cy="1079640"/>
          </a:xfrm>
        </p:grpSpPr>
        <p:sp>
          <p:nvSpPr>
            <p:cNvPr id="140" name="Cube 2"/>
            <p:cNvSpPr/>
            <p:nvPr/>
          </p:nvSpPr>
          <p:spPr>
            <a:xfrm rot="464400">
              <a:off x="5470920" y="5599080"/>
              <a:ext cx="2255040" cy="55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8187c"/>
                </a:gs>
                <a:gs pos="100000">
                  <a:srgbClr val="2020a6"/>
                </a:gs>
              </a:gsLst>
              <a:lin ang="15738000"/>
            </a:gradFill>
            <a:ln w="9360">
              <a:solidFill>
                <a:srgbClr val="2f2f9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Isosceles Triangle 3"/>
            <p:cNvSpPr/>
            <p:nvPr/>
          </p:nvSpPr>
          <p:spPr>
            <a:xfrm>
              <a:off x="6474240" y="5652000"/>
              <a:ext cx="205920" cy="22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8187c"/>
                </a:gs>
                <a:gs pos="100000">
                  <a:srgbClr val="2020a6"/>
                </a:gs>
              </a:gsLst>
              <a:lin ang="16200000"/>
            </a:gradFill>
            <a:ln w="9360">
              <a:solidFill>
                <a:srgbClr val="2f2f9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Group 183" descr=""/>
            <p:cNvPicPr/>
            <p:nvPr/>
          </p:nvPicPr>
          <p:blipFill>
            <a:blip r:embed="rId1"/>
            <a:stretch/>
          </p:blipFill>
          <p:spPr>
            <a:xfrm>
              <a:off x="5219640" y="4797360"/>
              <a:ext cx="618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714"/>
            <p:cNvSpPr/>
            <p:nvPr/>
          </p:nvSpPr>
          <p:spPr>
            <a:xfrm>
              <a:off x="5777280" y="4855320"/>
              <a:ext cx="627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597a0"/>
                  </a:solidFill>
                  <a:latin typeface="Palatino Linotype"/>
                </a:rPr>
                <a:t>IL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597a0"/>
                  </a:solidFill>
                  <a:latin typeface="Palatino Linotype"/>
                </a:rPr>
                <a:t>IL-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597a0"/>
                  </a:solidFill>
                  <a:latin typeface="Palatino Linotype"/>
                </a:rPr>
                <a:t>IFN-</a:t>
              </a:r>
              <a:r>
                <a:rPr b="1" lang="el-GR" sz="1200" spc="-1" strike="noStrike">
                  <a:solidFill>
                    <a:srgbClr val="4597a0"/>
                  </a:solidFill>
                  <a:latin typeface="Palatino Linotype"/>
                </a:rPr>
                <a:t>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Group 183" descr=""/>
            <p:cNvPicPr/>
            <p:nvPr/>
          </p:nvPicPr>
          <p:blipFill>
            <a:blip r:embed="rId2"/>
            <a:stretch/>
          </p:blipFill>
          <p:spPr>
            <a:xfrm>
              <a:off x="7171560" y="5079600"/>
              <a:ext cx="56952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1"/>
            <p:cNvSpPr/>
            <p:nvPr/>
          </p:nvSpPr>
          <p:spPr>
            <a:xfrm>
              <a:off x="7771680" y="5121720"/>
              <a:ext cx="653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597a0"/>
                  </a:solidFill>
                  <a:latin typeface="Palatino Linotype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597a0"/>
                  </a:solidFill>
                  <a:latin typeface="Palatino Linotype"/>
                </a:rPr>
                <a:t>IL-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597a0"/>
                  </a:solidFill>
                  <a:latin typeface="Palatino Linotype"/>
                </a:rPr>
                <a:t>IL-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22"/>
          <p:cNvSpPr/>
          <p:nvPr/>
        </p:nvSpPr>
        <p:spPr>
          <a:xfrm>
            <a:off x="4284720" y="6308640"/>
            <a:ext cx="86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4597a0"/>
                </a:solidFill>
                <a:latin typeface="Arial"/>
              </a:rPr>
              <a:t>г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24"/>
          <p:cNvCxnSpPr/>
          <p:nvPr/>
        </p:nvCxnSpPr>
        <p:spPr>
          <a:xfrm flipV="1">
            <a:off x="5508720" y="6165360"/>
            <a:ext cx="1296000" cy="216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8" name="Straight Arrow Connector 25"/>
          <p:cNvCxnSpPr/>
          <p:nvPr/>
        </p:nvCxnSpPr>
        <p:spPr>
          <a:xfrm flipH="1" flipV="1">
            <a:off x="2626560" y="6165360"/>
            <a:ext cx="1297800" cy="216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49" name="Rectangle 26"/>
          <p:cNvSpPr/>
          <p:nvPr/>
        </p:nvSpPr>
        <p:spPr>
          <a:xfrm>
            <a:off x="6948360" y="6021360"/>
            <a:ext cx="2043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9194d"/>
                </a:solidFill>
                <a:latin typeface="Arial"/>
              </a:rPr>
              <a:t>алергијске болести, ринитис,  ас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539640" y="836640"/>
            <a:ext cx="3456000" cy="3672000"/>
          </a:xfrm>
          <a:prstGeom prst="rect">
            <a:avLst/>
          </a:prstGeom>
          <a:solidFill>
            <a:srgbClr val="d1d1f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бројније породиц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рана изложеност  инфективним болести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стимулација  </a:t>
            </a:r>
            <a:r>
              <a:rPr b="0" lang="en-US" sz="1900" spc="-1" strike="noStrike">
                <a:solidFill>
                  <a:srgbClr val="19194d"/>
                </a:solidFill>
                <a:latin typeface="Palatino Linotype"/>
              </a:rPr>
              <a:t>Th1 </a:t>
            </a: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одговор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мања употреба антибиоти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African children Washing hands"/>
          <p:cNvPicPr/>
          <p:nvPr/>
        </p:nvPicPr>
        <p:blipFill>
          <a:blip r:embed="rId3"/>
          <a:stretch/>
        </p:blipFill>
        <p:spPr>
          <a:xfrm>
            <a:off x="507960" y="812880"/>
            <a:ext cx="2514600" cy="3047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3"/>
          <p:cNvSpPr/>
          <p:nvPr/>
        </p:nvSpPr>
        <p:spPr>
          <a:xfrm>
            <a:off x="5003640" y="836640"/>
            <a:ext cx="3384720" cy="36720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породице</a:t>
            </a:r>
            <a:r>
              <a:rPr b="0" lang="en-US" sz="1900" spc="-1" strike="noStrike">
                <a:solidFill>
                  <a:srgbClr val="19194d"/>
                </a:solidFill>
                <a:latin typeface="Palatino Linotype"/>
              </a:rPr>
              <a:t> </a:t>
            </a: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са мање члан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мања изложеност  инфективним болести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вакцинациј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стимулација </a:t>
            </a:r>
            <a:r>
              <a:rPr b="0" lang="en-US" sz="1900" spc="-1" strike="noStrike">
                <a:solidFill>
                  <a:srgbClr val="19194d"/>
                </a:solidFill>
                <a:latin typeface="Palatino Linotype"/>
              </a:rPr>
              <a:t>Th</a:t>
            </a: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2</a:t>
            </a:r>
            <a:r>
              <a:rPr b="0" lang="en-US" sz="1900" spc="-1" strike="noStrike">
                <a:solidFill>
                  <a:srgbClr val="19194d"/>
                </a:solidFill>
                <a:latin typeface="Palatino Linotype"/>
              </a:rPr>
              <a:t> </a:t>
            </a: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одговор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19194d"/>
                </a:solidFill>
                <a:latin typeface="Palatino Linotype"/>
              </a:rPr>
              <a:t>већа употреба антибиоти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motherforlife.com/uploads/images/articles/file_main_image_7836_2_donner_bain_tous_jours_01_7836_cache_316x500.jpg"/>
          <p:cNvPicPr/>
          <p:nvPr/>
        </p:nvPicPr>
        <p:blipFill>
          <a:blip r:embed="rId4"/>
          <a:stretch/>
        </p:blipFill>
        <p:spPr>
          <a:xfrm>
            <a:off x="4978440" y="825480"/>
            <a:ext cx="2489040" cy="307332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61"/>
          <p:cNvGrpSpPr/>
          <p:nvPr/>
        </p:nvGrpSpPr>
        <p:grpSpPr>
          <a:xfrm>
            <a:off x="468360" y="4650480"/>
            <a:ext cx="3122640" cy="1154880"/>
            <a:chOff x="468360" y="4650480"/>
            <a:chExt cx="3122640" cy="1154880"/>
          </a:xfrm>
        </p:grpSpPr>
        <p:sp>
          <p:nvSpPr>
            <p:cNvPr id="155" name="Oval 184"/>
            <p:cNvSpPr/>
            <p:nvPr/>
          </p:nvSpPr>
          <p:spPr>
            <a:xfrm rot="16200000">
              <a:off x="455400" y="4736880"/>
              <a:ext cx="349200" cy="323640"/>
            </a:xfrm>
            <a:prstGeom prst="ellipse">
              <a:avLst/>
            </a:prstGeom>
            <a:solidFill>
              <a:srgbClr val="d1d1f0"/>
            </a:solidFill>
            <a:ln w="93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60"/>
            <p:cNvGrpSpPr/>
            <p:nvPr/>
          </p:nvGrpSpPr>
          <p:grpSpPr>
            <a:xfrm>
              <a:off x="540360" y="4650480"/>
              <a:ext cx="3050640" cy="1154880"/>
              <a:chOff x="540360" y="4650480"/>
              <a:chExt cx="3050640" cy="1154880"/>
            </a:xfrm>
          </p:grpSpPr>
          <p:sp>
            <p:nvSpPr>
              <p:cNvPr id="157" name="Cube 40"/>
              <p:cNvSpPr/>
              <p:nvPr/>
            </p:nvSpPr>
            <p:spPr>
              <a:xfrm rot="464400">
                <a:off x="596880" y="5505120"/>
                <a:ext cx="2360160" cy="60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18187c"/>
                  </a:gs>
                  <a:gs pos="100000">
                    <a:srgbClr val="2020a6"/>
                  </a:gs>
                </a:gsLst>
                <a:lin ang="15738000"/>
              </a:gradFill>
              <a:ln w="9360">
                <a:solidFill>
                  <a:srgbClr val="2f2f9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Isosceles Triangle 41"/>
              <p:cNvSpPr/>
              <p:nvPr/>
            </p:nvSpPr>
            <p:spPr>
              <a:xfrm>
                <a:off x="1646640" y="5562720"/>
                <a:ext cx="215640" cy="242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7c"/>
                  </a:gs>
                  <a:gs pos="100000">
                    <a:srgbClr val="2020a6"/>
                  </a:gs>
                </a:gsLst>
                <a:lin ang="16200000"/>
              </a:gradFill>
              <a:ln w="9360">
                <a:solidFill>
                  <a:srgbClr val="2f2f9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85"/>
              <p:cNvSpPr/>
              <p:nvPr/>
            </p:nvSpPr>
            <p:spPr>
              <a:xfrm rot="16200000">
                <a:off x="529200" y="4816080"/>
                <a:ext cx="237960" cy="215640"/>
              </a:xfrm>
              <a:prstGeom prst="ellipse">
                <a:avLst/>
              </a:prstGeom>
              <a:solidFill>
                <a:srgbClr val="262673"/>
              </a:solidFill>
              <a:ln w="1260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h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714"/>
              <p:cNvSpPr/>
              <p:nvPr/>
            </p:nvSpPr>
            <p:spPr>
              <a:xfrm>
                <a:off x="2934000" y="5015520"/>
                <a:ext cx="657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4597a0"/>
                    </a:solidFill>
                    <a:latin typeface="Palatino Linotype"/>
                  </a:rPr>
                  <a:t>IL-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4597a0"/>
                    </a:solidFill>
                    <a:latin typeface="Palatino Linotype"/>
                  </a:rPr>
                  <a:t>IL-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4597a0"/>
                    </a:solidFill>
                    <a:latin typeface="Palatino Linotype"/>
                  </a:rPr>
                  <a:t>IFN-</a:t>
                </a:r>
                <a:r>
                  <a:rPr b="1" lang="el-GR" sz="1200" spc="-1" strike="noStrike">
                    <a:solidFill>
                      <a:srgbClr val="4597a0"/>
                    </a:solidFill>
                    <a:latin typeface="Palatino Linotype"/>
                  </a:rPr>
                  <a:t>γ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1" name="Group 183" descr=""/>
              <p:cNvPicPr/>
              <p:nvPr/>
            </p:nvPicPr>
            <p:blipFill>
              <a:blip r:embed="rId5"/>
              <a:stretch/>
            </p:blipFill>
            <p:spPr>
              <a:xfrm>
                <a:off x="2375280" y="4940280"/>
                <a:ext cx="59652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Flowchart: Connector 50"/>
              <p:cNvSpPr/>
              <p:nvPr/>
            </p:nvSpPr>
            <p:spPr>
              <a:xfrm>
                <a:off x="2724480" y="5397480"/>
                <a:ext cx="53640" cy="53640"/>
              </a:xfrm>
              <a:prstGeom prst="flowChartConnector">
                <a:avLst/>
              </a:prstGeom>
              <a:solidFill>
                <a:srgbClr val="666666"/>
              </a:solidFill>
              <a:ln w="255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lowchart: Connector 51"/>
              <p:cNvSpPr/>
              <p:nvPr/>
            </p:nvSpPr>
            <p:spPr>
              <a:xfrm>
                <a:off x="2781720" y="5454720"/>
                <a:ext cx="53640" cy="53640"/>
              </a:xfrm>
              <a:prstGeom prst="flowChartConnector">
                <a:avLst/>
              </a:prstGeom>
              <a:solidFill>
                <a:srgbClr val="666666"/>
              </a:solidFill>
              <a:ln w="255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lowchart: Connector 52"/>
              <p:cNvSpPr/>
              <p:nvPr/>
            </p:nvSpPr>
            <p:spPr>
              <a:xfrm>
                <a:off x="2838600" y="5511960"/>
                <a:ext cx="53640" cy="53640"/>
              </a:xfrm>
              <a:prstGeom prst="flowChartConnector">
                <a:avLst/>
              </a:prstGeom>
              <a:solidFill>
                <a:srgbClr val="666666"/>
              </a:solidFill>
              <a:ln w="255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lowchart: Connector 53"/>
              <p:cNvSpPr/>
              <p:nvPr/>
            </p:nvSpPr>
            <p:spPr>
              <a:xfrm>
                <a:off x="2802240" y="5367240"/>
                <a:ext cx="53640" cy="53640"/>
              </a:xfrm>
              <a:prstGeom prst="flowChartConnector">
                <a:avLst/>
              </a:prstGeom>
              <a:solidFill>
                <a:srgbClr val="666666"/>
              </a:solidFill>
              <a:ln w="255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lowchart: Connector 54"/>
              <p:cNvSpPr/>
              <p:nvPr/>
            </p:nvSpPr>
            <p:spPr>
              <a:xfrm>
                <a:off x="2859480" y="5424480"/>
                <a:ext cx="53640" cy="53640"/>
              </a:xfrm>
              <a:prstGeom prst="flowChartConnector">
                <a:avLst/>
              </a:prstGeom>
              <a:solidFill>
                <a:srgbClr val="666666"/>
              </a:solidFill>
              <a:ln w="255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55"/>
              <p:cNvSpPr/>
              <p:nvPr/>
            </p:nvSpPr>
            <p:spPr>
              <a:xfrm>
                <a:off x="838440" y="4650480"/>
                <a:ext cx="684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597a0"/>
                    </a:solidFill>
                    <a:latin typeface="Palatino Linotype"/>
                  </a:rPr>
                  <a:t>IL-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597a0"/>
                    </a:solidFill>
                    <a:latin typeface="Palatino Linotype"/>
                  </a:rPr>
                  <a:t>IL-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597a0"/>
                    </a:solidFill>
                    <a:latin typeface="Palatino Linotype"/>
                  </a:rPr>
                  <a:t>IL-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Rectangle 65"/>
          <p:cNvSpPr/>
          <p:nvPr/>
        </p:nvSpPr>
        <p:spPr>
          <a:xfrm>
            <a:off x="611280" y="602136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9194d"/>
                </a:solidFill>
                <a:latin typeface="Arial"/>
              </a:rPr>
              <a:t>нема ал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8"/>
          <p:cNvSpPr/>
          <p:nvPr/>
        </p:nvSpPr>
        <p:spPr>
          <a:xfrm>
            <a:off x="2340000" y="4724280"/>
            <a:ext cx="1295280" cy="10810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9"/>
          <p:cNvSpPr/>
          <p:nvPr/>
        </p:nvSpPr>
        <p:spPr>
          <a:xfrm>
            <a:off x="7093080" y="4797360"/>
            <a:ext cx="1295280" cy="107964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tangle 72" descr=""/>
          <p:cNvPicPr/>
          <p:nvPr/>
        </p:nvPicPr>
        <p:blipFill>
          <a:blip r:embed="rId6"/>
          <a:stretch/>
        </p:blipFill>
        <p:spPr>
          <a:xfrm>
            <a:off x="1600200" y="-12600"/>
            <a:ext cx="5651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86"/>
          <p:cNvGrpSpPr/>
          <p:nvPr/>
        </p:nvGrpSpPr>
        <p:grpSpPr>
          <a:xfrm>
            <a:off x="685800" y="5059440"/>
            <a:ext cx="189000" cy="198360"/>
            <a:chOff x="685800" y="5059440"/>
            <a:chExt cx="189000" cy="198360"/>
          </a:xfrm>
        </p:grpSpPr>
        <p:sp>
          <p:nvSpPr>
            <p:cNvPr id="173" name="Flowchart: Connector 81"/>
            <p:cNvSpPr/>
            <p:nvPr/>
          </p:nvSpPr>
          <p:spPr>
            <a:xfrm>
              <a:off x="685800" y="508932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lowchart: Connector 82"/>
            <p:cNvSpPr/>
            <p:nvPr/>
          </p:nvSpPr>
          <p:spPr>
            <a:xfrm>
              <a:off x="743040" y="514656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lowchart: Connector 83"/>
            <p:cNvSpPr/>
            <p:nvPr/>
          </p:nvSpPr>
          <p:spPr>
            <a:xfrm>
              <a:off x="800280" y="520380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lowchart: Connector 84"/>
            <p:cNvSpPr/>
            <p:nvPr/>
          </p:nvSpPr>
          <p:spPr>
            <a:xfrm>
              <a:off x="763560" y="505944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lowchart: Connector 85"/>
            <p:cNvSpPr/>
            <p:nvPr/>
          </p:nvSpPr>
          <p:spPr>
            <a:xfrm>
              <a:off x="820800" y="511632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98"/>
          <p:cNvGrpSpPr/>
          <p:nvPr/>
        </p:nvGrpSpPr>
        <p:grpSpPr>
          <a:xfrm>
            <a:off x="7543800" y="5410080"/>
            <a:ext cx="189000" cy="198720"/>
            <a:chOff x="7543800" y="5410080"/>
            <a:chExt cx="189000" cy="198720"/>
          </a:xfrm>
        </p:grpSpPr>
        <p:sp>
          <p:nvSpPr>
            <p:cNvPr id="179" name="Flowchart: Connector 87"/>
            <p:cNvSpPr/>
            <p:nvPr/>
          </p:nvSpPr>
          <p:spPr>
            <a:xfrm>
              <a:off x="7543800" y="544032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lowchart: Connector 88"/>
            <p:cNvSpPr/>
            <p:nvPr/>
          </p:nvSpPr>
          <p:spPr>
            <a:xfrm>
              <a:off x="7601040" y="549756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lowchart: Connector 89"/>
            <p:cNvSpPr/>
            <p:nvPr/>
          </p:nvSpPr>
          <p:spPr>
            <a:xfrm>
              <a:off x="7658280" y="555480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lowchart: Connector 90"/>
            <p:cNvSpPr/>
            <p:nvPr/>
          </p:nvSpPr>
          <p:spPr>
            <a:xfrm>
              <a:off x="7621560" y="541008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lowchart: Connector 91"/>
            <p:cNvSpPr/>
            <p:nvPr/>
          </p:nvSpPr>
          <p:spPr>
            <a:xfrm>
              <a:off x="7678800" y="546732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97"/>
          <p:cNvGrpSpPr/>
          <p:nvPr/>
        </p:nvGrpSpPr>
        <p:grpSpPr>
          <a:xfrm>
            <a:off x="5486400" y="5135400"/>
            <a:ext cx="189000" cy="198720"/>
            <a:chOff x="5486400" y="5135400"/>
            <a:chExt cx="189000" cy="198720"/>
          </a:xfrm>
        </p:grpSpPr>
        <p:sp>
          <p:nvSpPr>
            <p:cNvPr id="185" name="Flowchart: Connector 92"/>
            <p:cNvSpPr/>
            <p:nvPr/>
          </p:nvSpPr>
          <p:spPr>
            <a:xfrm>
              <a:off x="5486400" y="516564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lowchart: Connector 93"/>
            <p:cNvSpPr/>
            <p:nvPr/>
          </p:nvSpPr>
          <p:spPr>
            <a:xfrm>
              <a:off x="5543640" y="522288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lowchart: Connector 94"/>
            <p:cNvSpPr/>
            <p:nvPr/>
          </p:nvSpPr>
          <p:spPr>
            <a:xfrm>
              <a:off x="5600880" y="528012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lowchart: Connector 95"/>
            <p:cNvSpPr/>
            <p:nvPr/>
          </p:nvSpPr>
          <p:spPr>
            <a:xfrm>
              <a:off x="5564160" y="513540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lowchart: Connector 96"/>
            <p:cNvSpPr/>
            <p:nvPr/>
          </p:nvSpPr>
          <p:spPr>
            <a:xfrm>
              <a:off x="5621400" y="5192640"/>
              <a:ext cx="54000" cy="540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екови као фактор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ризика за настанак бронх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осп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1280" y="192672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ета блокатори, АЦЕ инхибитори, пропафе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нтрастн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итрофурант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пиридам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стероидни антиреум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цетилсалицилн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екови у спреју (пропеланти, беклометазон, пентамид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ета лактамски антибио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тисеруми, вакцине, екстракти алерг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каин, хер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рептокиназа, локални анест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нзерванси у лековима, храни, козм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тофизилогија настанка инфла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56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ендритичне ћелије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алергени из ваздуха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игрирају у локалне лимфне чворове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имулишу продукцију Th2 лимфоцита, који стварају и ослобађају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ецифичн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итокине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–4, –5, –9 i –1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) који индукују експресију IgE рецептора углавном на мастоцитима и еозинофи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стоцити : под дејством алергена ослобађају медијат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хиперреактивност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бронхоконстрикциј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хистамин, цистеинил леукотриени, простагландин D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озинофили - ослобађају протеине који могу да доведу до оштећења епителних ћелија респираторног тракта. Имају улогу у ослобађању фактора раста и ремоделовању путева за дис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крофаги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еталопротеиназ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еласти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и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утрофили (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L-13, TNF-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, IL-6 i IL-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6"/>
          <p:cNvCxnSpPr/>
          <p:nvPr/>
        </p:nvCxnSpPr>
        <p:spPr>
          <a:xfrm>
            <a:off x="8101080" y="3357360"/>
            <a:ext cx="504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Straight Arrow Connector 9"/>
          <p:cNvCxnSpPr/>
          <p:nvPr/>
        </p:nvCxnSpPr>
        <p:spPr>
          <a:xfrm>
            <a:off x="3059280" y="3715920"/>
            <a:ext cx="505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ључни медијатори у настанку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0080" y="21337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емокини (важни за обнављање инфламираних ћел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истеинил леукотриени (јаки бронхоконстриктори и медијатори за настанак инфламације , ослобађају их мастоцити и еозиноф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итокини : управљају инфламаторним одговором код астме и одређују јачину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истамин: ослобађају га мастоцити , учествује настанку бронхоконстрикције и инфла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зот моноксид (NO):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трајн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реверзибилн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пструкциј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исајни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ут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стагландин D2 : бронхоконстриктор ослобађају га највише маст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јагностика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0080" y="1916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Спиро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Телесна плетизмограф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Бронходилатацијски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Бронхопровокацијски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Пикфлоу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јагностика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0080" y="1916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Кожне пробе на алергене и ниво IgE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&lt;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0" t="0" r="27269" b="0"/>
          <a:stretch/>
        </p:blipFill>
        <p:spPr>
          <a:xfrm>
            <a:off x="4643280" y="2502000"/>
            <a:ext cx="4176720" cy="3728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0440" y="2502000"/>
            <a:ext cx="39672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Физиолошка функција пл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 независне фун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ровођење удисајног ваздуха у алвеоле и издисајног ваздуха у трахе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збеђење дотока крви у/из алве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мена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C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нивоу алве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5867280" y="4365720"/>
            <a:ext cx="20178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јагностика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0080" y="1916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Спиро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VC, FEV1, P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V, FRC, T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284720" y="2205000"/>
            <a:ext cx="4319640" cy="424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60440" y="3645000"/>
            <a:ext cx="3824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јагностика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0080" y="1916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Телесна плетизмограф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w, TG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1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1= P2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jl Mariotov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зако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волуме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ас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константно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мењ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брнут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размерн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промен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притиск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елуј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2287080"/>
            <a:ext cx="8229600" cy="4526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Ð ÐµÐ·ÑÐ»ÑÐ°Ñ ÑÐ»Ð¸ÐºÐ° Ð·Ð° pletizmograf"/>
          <p:cNvPicPr/>
          <p:nvPr/>
        </p:nvPicPr>
        <p:blipFill>
          <a:blip r:embed="rId2"/>
          <a:stretch/>
        </p:blipFill>
        <p:spPr>
          <a:xfrm>
            <a:off x="598320" y="1197000"/>
            <a:ext cx="7645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јагностика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0080" y="1916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Пикфлоу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Мерач вршног експиријумског про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Једноставан, м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јефтин апа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Мери вршни проток при изда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Постоји више мо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932360" y="3284640"/>
            <a:ext cx="3887640" cy="3135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5651640" y="64198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ikfloum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иничка слика бронхијалне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0080" y="21337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тни напади гуш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ждање у гру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ш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тезање у гру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достатак вазд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већана секреција мук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бронхоконстри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ласификација бронхијалне астме према тежини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на тежине на основу учесталости дневних и ноћних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иљ је да се постигне контрола астме са што је могуће мањ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епен: 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Интермитентна ас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лазни симптоми &lt; 1 пут недељ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ћни напади астме ≤ 2 пута месе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Ф или ФЕВ1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ријабилност ПЕФ &lt;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ласификација бронхијалне астме према тежини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епен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Блага перзистентна ас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ад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 пут недељно, али &lt; 1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ћни напади астме &gt; 2 пута месе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Ф или ФЕВ1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ријабилност 20–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епен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Средње тешка перзистентна ас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ади сваког д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ћни напади астме &gt; 1 пута недељ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Ф или ФЕВ1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60 а 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ријабилност &gt;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ласификација бронхијалне астме према тежини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епен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Тешка перзистентна ас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лно присутни 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сте егзацерб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шћи ноћни напади аст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граничена физич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Ф или ФЕВ1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ријабилност &gt;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3" descr=""/>
          <p:cNvPicPr/>
          <p:nvPr/>
        </p:nvPicPr>
        <p:blipFill>
          <a:blip r:embed="rId1"/>
          <a:stretch/>
        </p:blipFill>
        <p:spPr>
          <a:xfrm>
            <a:off x="324000" y="1062000"/>
            <a:ext cx="8362800" cy="5580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367200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GIN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7" descr=""/>
          <p:cNvPicPr/>
          <p:nvPr/>
        </p:nvPicPr>
        <p:blipFill>
          <a:blip r:embed="rId1"/>
          <a:stretch/>
        </p:blipFill>
        <p:spPr>
          <a:xfrm>
            <a:off x="324000" y="1000080"/>
            <a:ext cx="84960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олести респираторног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" y="177336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структив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пструкција или спазам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стма, ХОБП, емфизем, карцином, цистична фиброза, физичка опструкција, трау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стриктивне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лућна фиб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фуз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штећење алвеола: емфизем, реакција преосет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дем плућа (инхалациони пнеумонитис, лимфатичка опструк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утна слабост циркулације ( плућна емболија, ИМ, ш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нтилатор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штећење неурона: шлог, траума, инфекција мозга, парализа респираторних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пресија неуротрансмисије: наркотици, психотропни 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ерапија бронхијалне аст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кови за прекид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928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Бронходилатато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гонисти β2 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локатори мускаринских 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локатори фосфодиестер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Антиинфламаторни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4.  кортикостероиди - инхалато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5.  блокатори рецептора за леукотри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 стабилизатори маст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7.  биолошк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8.  рофлумил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0080" y="1699920"/>
            <a:ext cx="81471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Лекови за прекид напада аст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Бронходилатато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гонисти β2 рецептора са краткотрајним деј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локатори мускаринских рецептора са краткотрајним деј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локатори фосфодиесте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ртикостероиди (систем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8920" y="234792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.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гонисти β2 рецептора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дугог де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вилантерол, салметерол, формо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инхалаторна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икада самоста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мбинација са ИКС-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920" y="228708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2.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окатори мускаринских рецептора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дугог де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тиотропијум (М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мбинација са ИКС-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мање ефикасни од бета-2 агон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туимускаринска нежељена дејств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Comic Sans MS"/>
              </a:rPr>
              <a:t>умеклидин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i="1" lang="sr-RS" sz="2400" spc="-1" strike="noStrike">
                <a:solidFill>
                  <a:srgbClr val="000000"/>
                </a:solidFill>
                <a:latin typeface="Comic Sans MS"/>
              </a:rPr>
              <a:t>у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sr-RS" sz="2400" spc="-1" strike="noStrike">
                <a:solidFill>
                  <a:srgbClr val="000000"/>
                </a:solidFill>
                <a:latin typeface="Comic Sans MS"/>
              </a:rPr>
              <a:t>аклидинијум</a:t>
            </a:r>
            <a:r>
              <a:rPr b="0" i="1" lang="sr-Latn-R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sr-RS" sz="2400" spc="-1" strike="noStrike">
                <a:solidFill>
                  <a:srgbClr val="000000"/>
                </a:solidFill>
                <a:latin typeface="Comic Sans MS"/>
              </a:rPr>
              <a:t>гликопиронијум</a:t>
            </a:r>
            <a:r>
              <a:rPr b="0" i="1" lang="sr-Latn-RS" sz="2400" spc="-1" strike="noStrike">
                <a:solidFill>
                  <a:srgbClr val="000000"/>
                </a:solidFill>
                <a:latin typeface="Comic Sans MS"/>
              </a:rPr>
              <a:t> (HOBP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0080" y="1773360"/>
            <a:ext cx="81471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3. Блокатори фосфодиестераз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теофи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име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нхибира фосфодиестеразу ензим који разграђује цАМФ и блокира рецепторе за адено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нажан бронходилататор, стимулатор срчаног рада, смањује замор респираторне мускулатуре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ањи А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нтролисати концентрацију – мучнина,повраћање, немир, арит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рофлумиласт (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PD</a:t>
            </a:r>
            <a:r>
              <a:rPr b="0" lang="sr-Latn-RS" sz="2400" spc="-1" strike="noStrike">
                <a:solidFill>
                  <a:srgbClr val="00b05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-4)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– антиинфламаторни ефекат - ХОБ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0080" y="206064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Comic Sans MS"/>
              </a:rPr>
              <a:t>4. Кортикостероид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беклометазон, будесонид, флутиказон</a:t>
            </a:r>
            <a:r>
              <a:rPr b="0" lang="sr-Latn-RS" sz="2800" spc="-1" strike="noStrike">
                <a:solidFill>
                  <a:srgbClr val="00b05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циклезон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тиинфламаторно деј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Инхалаторна 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мбинација са бета-2 агонистима са продуженим дејством (салметерол, формотер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пецифична нежељен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 u="sng">
                <a:solidFill>
                  <a:srgbClr val="000000"/>
                </a:solidFill>
                <a:uFillTx/>
                <a:latin typeface="Comic Sans MS"/>
              </a:rPr>
              <a:t>5. Блокатори рецептора за леукотриене 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монтелукаст, зафилукаст, пранлук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зилеутон (5-липооксиген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имена пер 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Комбинација са бета-2 агонистима са продуженим дејством (салметерол, формотерол) и кортикостерои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Д: </a:t>
            </a: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заф/мон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 - Чург Штраусов синдром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зафирлукаст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 фарфарина    теофи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зилеутон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теофи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4"/>
          <p:cNvCxnSpPr/>
          <p:nvPr/>
        </p:nvCxnSpPr>
        <p:spPr>
          <a:xfrm flipV="1">
            <a:off x="2626920" y="5516280"/>
            <a:ext cx="108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Straight Arrow Connector 6"/>
          <p:cNvCxnSpPr/>
          <p:nvPr/>
        </p:nvCxnSpPr>
        <p:spPr>
          <a:xfrm flipV="1">
            <a:off x="3203280" y="5012640"/>
            <a:ext cx="108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Straight Arrow Connector 7"/>
          <p:cNvCxnSpPr/>
          <p:nvPr/>
        </p:nvCxnSpPr>
        <p:spPr>
          <a:xfrm>
            <a:off x="5579640" y="5013360"/>
            <a:ext cx="108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6. Стабилизатори мастоц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кромолин (кромогликат-На), недокром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инхалаторна 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пречавају ослобађање инфламаторних медија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стма на нап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Д - ретка и блага: мучнина, благ бол у желуцу, слаби болови у зглобовима, сув каш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844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Comic Sans MS"/>
              </a:rPr>
              <a:t>7. Биолошка 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меполизумаб, бенрализумаб, реслизумаб</a:t>
            </a:r>
            <a:r>
              <a:rPr b="0" lang="sr-Latn-RS" sz="2800" spc="-1" strike="noStrike">
                <a:solidFill>
                  <a:srgbClr val="00b050"/>
                </a:solidFill>
                <a:latin typeface="Comic Sans MS"/>
              </a:rPr>
              <a:t> - (IL-5), o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мализумаб</a:t>
            </a:r>
            <a:r>
              <a:rPr b="0" lang="sr-Latn-RS" sz="2800" spc="-1" strike="noStrike">
                <a:solidFill>
                  <a:srgbClr val="00b050"/>
                </a:solidFill>
                <a:latin typeface="Comic Sans MS"/>
              </a:rPr>
              <a:t> – (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IgE</a:t>
            </a:r>
            <a:r>
              <a:rPr b="0" lang="sr-Latn-RS" sz="2800" spc="-1" strike="noStrike">
                <a:solidFill>
                  <a:srgbClr val="00b050"/>
                </a:solidFill>
                <a:latin typeface="Comic Sans MS"/>
              </a:rPr>
              <a:t>)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, дупилумаб –(</a:t>
            </a:r>
            <a:r>
              <a:rPr b="0" lang="sr-Latn-RS" sz="2800" spc="-1" strike="noStrike">
                <a:solidFill>
                  <a:srgbClr val="00b050"/>
                </a:solidFill>
                <a:latin typeface="Comic Sans MS"/>
              </a:rPr>
              <a:t>IL-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4</a:t>
            </a:r>
            <a:r>
              <a:rPr b="0" lang="sr-Latn-RS" sz="2800" spc="-1" strike="noStrike">
                <a:solidFill>
                  <a:srgbClr val="00b050"/>
                </a:solidFill>
                <a:latin typeface="Comic Sans MS"/>
              </a:rPr>
              <a:t>R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тешки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блици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истемска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пр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Д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ува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уста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рице, црвенило, бол или иритација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месту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имен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арцино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секреција из носа, повишена температура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збиљне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лергијске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реакције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еозинофи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пструктивне болести пл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71600" y="177336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ронхијална астм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онична опструктивна болест плућа (ХОБП)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хронични опструктивни бронхитис и емфизем плућ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ома честа обољења, како у свету, тако и у наш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ЗО процењује да око 300 милиона људи болује од астм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а тенденцијом по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стма је најчешћа хронична болест код 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у превенцији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Comic Sans MS"/>
              </a:rPr>
              <a:t>8. Инхибитор фосфодиестеразе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Comic Sans MS"/>
              </a:rPr>
              <a:t> 4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DE4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рофлумил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тиинфламаторни ефекат – </a:t>
            </a:r>
            <a:r>
              <a:rPr b="0" i="1" lang="sr-RS" sz="2800" spc="-1" strike="noStrike">
                <a:solidFill>
                  <a:srgbClr val="000000"/>
                </a:solidFill>
                <a:latin typeface="Comic Sans MS"/>
              </a:rPr>
              <a:t>ХОБ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имена</a:t>
            </a:r>
            <a:r>
              <a:rPr b="0" lang="sr-Latn-RS" sz="2800" spc="-1" strike="noStrike">
                <a:solidFill>
                  <a:srgbClr val="000000"/>
                </a:solidFill>
                <a:latin typeface="Comic Sans MS"/>
              </a:rPr>
              <a:t> per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Д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генерализова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лергијс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еакција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рхтавиц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вртоглавица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алпитације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гастрити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си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ж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ишићима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грчев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рсти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сећа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лаб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KS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omic Sans MS"/>
              </a:rPr>
              <a:t>+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BA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omic Sans MS"/>
              </a:rPr>
              <a:t>Астма и ХОБП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флутиказон / вилан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флутиказон / салме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мометазон / формотер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будесонид / формо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беклометазон / формотер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MA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omic Sans MS"/>
              </a:rPr>
              <a:t> +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BA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omic Sans MS"/>
              </a:rPr>
              <a:t>ХОБП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умеклидини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j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ум 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/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 вилан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гликопиронијум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/ 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индака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тиотропиум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sr-Latn-RS" sz="2400" spc="-1" strike="noStrike">
                <a:solidFill>
                  <a:srgbClr val="00b05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олода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Фиксне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омби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за прекид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699920"/>
            <a:ext cx="86421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1. Агонисти β2 рецептора са краткотрајним деј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Селективн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(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салбутамол, тербуталин, фенотерол, битолтерол) (ихалаторно и орал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Неселективни (изопреналин, орципреналин, адренал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Д: због активације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бета 1 и бета 2 рецептора а код неселктивних и због афинитета за алфа рецепторе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емор шака, лупање срца, пораст крвног притиска, аритмије, нерво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за прекид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2. Блокатор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Comic Sans MS"/>
              </a:rPr>
              <a:t>мускаринских рецептора са кратким дејством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ипатропијум бро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инхалаторна 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лечење егзацерб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тимускаринска нежељен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за прекид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0080" y="1773360"/>
            <a:ext cx="81471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3. Блокатори фосфодиестераз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теофи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арентерална примена - спора интравенска ињекција - дуже од 20 минута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нхибира фосфодиестеразу ензим који разграђује цАМФ и блокира рецепторе за адено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нажан бронходилататор, стимулатор срчаног рада, смањује замор респираторне мускул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нтролисати концентрацију – мучнина,повраћање, немир, аритмије, 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Лекови за прекид напада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Comic Sans MS"/>
              </a:rPr>
              <a:t>4. Кортикостероид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метилпреднизолон и преднизол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истемск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пецифична нежељен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већање секреције киселине у желуцу, остеопороза, атрофија коже, психотичне манифестације, хипертензија, катаракта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Фиксне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омби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MA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 +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BA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Comic Sans MS"/>
              </a:rPr>
              <a:t>Астма/ХОБ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ипратропијум</a:t>
            </a:r>
            <a:r>
              <a:rPr b="0" lang="sr-Latn-RS" sz="3200" spc="-1" strike="noStrike">
                <a:solidFill>
                  <a:srgbClr val="00b050"/>
                </a:solidFill>
                <a:latin typeface="Comic Sans MS"/>
              </a:rPr>
              <a:t> / </a:t>
            </a: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фенотерол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ипратропијум</a:t>
            </a:r>
            <a:r>
              <a:rPr b="0" lang="sr-Latn-RS" sz="3200" spc="-1" strike="noStrike">
                <a:solidFill>
                  <a:srgbClr val="00b050"/>
                </a:solidFill>
                <a:latin typeface="Comic Sans MS"/>
              </a:rPr>
              <a:t> / </a:t>
            </a: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албутерол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ипратропијум</a:t>
            </a:r>
            <a:r>
              <a:rPr b="0" lang="sr-Latn-RS" sz="3200" spc="-1" strike="noStrike">
                <a:solidFill>
                  <a:srgbClr val="00b050"/>
                </a:solidFill>
                <a:latin typeface="Comic Sans MS"/>
              </a:rPr>
              <a:t> / </a:t>
            </a:r>
            <a:r>
              <a:rPr b="0" lang="sr-RS" sz="3200" spc="-1" strike="noStrike">
                <a:solidFill>
                  <a:srgbClr val="00b050"/>
                </a:solidFill>
                <a:latin typeface="Comic Sans MS"/>
              </a:rPr>
              <a:t>салбутам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едности инхалацио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к делује брзо у малој д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спева директно до рецеп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ска нежељена дејства су м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тице су од 1 до 5 микром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0 % лека се прогута, а само 10% стигне до плућ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Депозиција лека током инхалацио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рактеристике аерос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чина честица и бр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 уређ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зирани аерос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бухалер, дискхалер, респ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оре са валвулом и обична ко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ни настав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ке за 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БУЛИЗ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СОБНОСТ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сматични нап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008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ушење, тахипнеја &gt;30/мин, агитираност, коришћење помоћне дисајне мускулатуре, </a:t>
            </a:r>
            <a:r>
              <a:rPr b="0" i="1" lang="hr-HR" sz="2400" spc="-1" strike="noStrike">
                <a:solidFill>
                  <a:srgbClr val="00b050"/>
                </a:solidFill>
                <a:latin typeface="Comic Sans MS"/>
              </a:rPr>
              <a:t>Wheezing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спрекидан 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лс &gt;1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от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м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адоксни пу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F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&lt; 60% (&lt; 10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2 &lt; 8 Кп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2 &gt; 6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гућа ција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гућа респираторна инсуфициј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т О2 &lt;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rcRect l="22852" t="30704" r="21568" b="48248"/>
          <a:stretch/>
        </p:blipFill>
        <p:spPr>
          <a:xfrm>
            <a:off x="539640" y="1628640"/>
            <a:ext cx="813600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14836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omic Sans MS"/>
                <a:ea typeface="Arial"/>
              </a:rPr>
              <a:t>GINA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сматични нап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0080" y="1773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Терап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Понављана инхалација краткоделујућег </a:t>
            </a:r>
            <a:r>
              <a:rPr b="0" lang="el-GR" sz="1800" spc="-1" strike="noStrike">
                <a:solidFill>
                  <a:srgbClr val="00b050"/>
                </a:solidFill>
                <a:latin typeface="Comic Sans MS"/>
              </a:rPr>
              <a:t>β2-</a:t>
            </a: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агонист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4 до 6 инхалација сваких 20 минута у току првог с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озираног аеросола (“спејсер”) или преко небулиз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тинуирана инхалација 5 – 10 мг/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дати ипратропиум бро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Епинефрин (адреналин) – астма + анафилаксија + ангио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аги напад: 2 – 4 инхалације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β2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гониста сваких 3 – 4 сата Средње тежак напад: 6 -10 инхалација сваких 1 – 2 сата, Тежак напад: до 10 инхалација у току 1 сата или 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9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Кисеоник </a:t>
            </a: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– </a:t>
            </a:r>
            <a:r>
              <a:rPr b="0" lang="sr-Latn-RS" sz="1800" spc="-1" strike="noStrike">
                <a:solidFill>
                  <a:srgbClr val="00b050"/>
                </a:solidFill>
                <a:latin typeface="Comic Sans MS"/>
              </a:rPr>
              <a:t>24-28%; </a:t>
            </a: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циљне вредности сатурације 93%-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Системски кортикостероиди (метилпреднизолон 40 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mg</a:t>
            </a: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 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9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Аминофилин интравенс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 ефикасно лечење неопходан ј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33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лтидисциплинарни прист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Едукација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Лекара примарне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Фармаце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Пулмолога, алерг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770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78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лога фармацеута у фармакотерапији пацијената са бронхијалном аст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0080" y="2303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радња са лека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цена индивидуалних потреба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порука - савет у вези фактора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дукација пациј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познавање симптом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вилна употреба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познавање нежељених реакција прописаних лекова и даље поступ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вилна употреба апликатора инхалационих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3" descr=""/>
          <p:cNvPicPr/>
          <p:nvPr/>
        </p:nvPicPr>
        <p:blipFill>
          <a:blip r:embed="rId1"/>
          <a:stretch/>
        </p:blipFill>
        <p:spPr>
          <a:xfrm>
            <a:off x="457200" y="1511280"/>
            <a:ext cx="7139160" cy="2062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1760" y="3747960"/>
            <a:ext cx="90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70c0"/>
                </a:solidFill>
                <a:latin typeface="Arial"/>
                <a:ea typeface="Arial"/>
              </a:rPr>
              <a:t>Шта је астма?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Астма узрокује симптоме као што су звиждање у грудима, отежано дисање, стезање у грудима и кашаљ који се временом разликују по својој појави, учесталости и интензитету.  Ови симптоми су повезани са променљивим протоком ваздуха при експиријуму, тј. отежаним издисајем ваздуха из плућа услед бронхоконстрикције (сужења дисајних путева), задебљања зидова дисајних путева и повећане секреције слузи.  Неке варијације у протоку ваздуха могу се јавити и код људи без астме, али веће су код нелечене астме.  Постоје различите врсте астме (које се такође називају фенотипови), које имају различите патофизиолошке проце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67200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GIN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41000" y="1773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ронична запаљенска болест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во запаљење је узрок понављаних епизода свирања у грудима, гушења и кашља, како током дана, тако и ноћу и после физичког нап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и ови симптоми су последица појачаног одговора 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хиперре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сајних путева на различите стимул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о резултат тога, јавља се дифузна опструкција дисајних путева, која је променљивог степена и губи се било спонтано или под утицајем примен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440" y="9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ронхијална ас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0080" y="21337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8920" y="1268280"/>
            <a:ext cx="896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AsthmaticBronchial"/>
          <p:cNvPicPr/>
          <p:nvPr/>
        </p:nvPicPr>
        <p:blipFill>
          <a:blip r:embed="rId1"/>
          <a:stretch/>
        </p:blipFill>
        <p:spPr>
          <a:xfrm>
            <a:off x="3137040" y="2349360"/>
            <a:ext cx="281124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250920" y="1287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Астм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је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хроничн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инфламаторн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боле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дисајни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путев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довод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краткорочних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.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2382840"/>
            <a:ext cx="2987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6600"/>
                </a:solidFill>
                <a:latin typeface="Comic Sans MS"/>
                <a:ea typeface="Arial"/>
              </a:rPr>
              <a:t>Манифестације</a:t>
            </a:r>
            <a:r>
              <a:rPr b="0" lang="sr-Latn-CS" sz="2000" spc="-1" strike="noStrike">
                <a:solidFill>
                  <a:srgbClr val="ff6600"/>
                </a:solidFill>
                <a:latin typeface="Comic Sans MS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Бронхоконстри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ојача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лучењ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се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Еде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слуз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2347920" y="3611520"/>
            <a:ext cx="2008080" cy="1330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4395960"/>
            <a:ext cx="327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6600"/>
                </a:solidFill>
                <a:latin typeface="Comic Sans MS"/>
                <a:ea typeface="Arial"/>
              </a:rPr>
              <a:t>Симптоми</a:t>
            </a:r>
            <a:r>
              <a:rPr b="0" lang="sr-Latn-CS" sz="1600" spc="-1" strike="noStrike">
                <a:solidFill>
                  <a:srgbClr val="ff6600"/>
                </a:solidFill>
                <a:latin typeface="Comic Sans MS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свирање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стезање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грудима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недостатак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ваздуха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/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гушење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кашаљ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–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посебно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ноћу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рано</a:t>
            </a:r>
            <a:r>
              <a:rPr b="0" lang="sr-Latn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ујут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865600" y="5229360"/>
            <a:ext cx="1346040" cy="1046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4989240" y="1844640"/>
            <a:ext cx="4163040" cy="4202280"/>
            <a:chOff x="4989240" y="1844640"/>
            <a:chExt cx="4163040" cy="4202280"/>
          </a:xfrm>
        </p:grpSpPr>
        <p:sp>
          <p:nvSpPr>
            <p:cNvPr id="116" name="Rectangle 10"/>
            <p:cNvSpPr/>
            <p:nvPr/>
          </p:nvSpPr>
          <p:spPr>
            <a:xfrm>
              <a:off x="6227640" y="2997360"/>
              <a:ext cx="2916360" cy="30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Ремоделовањ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Оштећ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ње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e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пителних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ћел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Повећање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масе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глатких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мишића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хиперплазија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Задебљање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ба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лне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ме</a:t>
              </a:r>
              <a:r>
                <a:rPr b="0" lang="sr-RS" sz="18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</a:rPr>
                <a:t>бр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 flipV="1">
              <a:off x="5003280" y="5157720"/>
              <a:ext cx="1081080" cy="432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 flipH="1">
              <a:off x="5435640" y="4941720"/>
              <a:ext cx="720720" cy="71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H="1">
              <a:off x="5076360" y="4365720"/>
              <a:ext cx="1079640" cy="57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 flipH="1">
              <a:off x="5292360" y="3860640"/>
              <a:ext cx="863640" cy="4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4989240" y="1844640"/>
              <a:ext cx="41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r>
                <a:rPr b="0" lang="sr-CS" sz="24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2400" spc="-1" strike="noStrike">
                  <a:solidFill>
                    <a:srgbClr val="000000"/>
                  </a:solidFill>
                  <a:latin typeface="Comic Sans MS"/>
                </a:rPr>
                <a:t>дугорочних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CS" sz="2400" spc="-1" strike="noStrike">
                  <a:solidFill>
                    <a:srgbClr val="000000"/>
                  </a:solidFill>
                  <a:latin typeface="Comic Sans MS"/>
                </a:rPr>
                <a:t>послед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7"/>
          <p:cNvSpPr/>
          <p:nvPr/>
        </p:nvSpPr>
        <p:spPr>
          <a:xfrm>
            <a:off x="34920" y="623880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нфилтрација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активација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нфламацијским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ћелиј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crosoft Office User</cp:lastModifiedBy>
  <dcterms:modified xsi:type="dcterms:W3CDTF">2022-01-31T08:02:27Z</dcterms:modified>
  <cp:revision>382</cp:revision>
  <dc:subject/>
  <dc:title>Slide 1</dc:title>
</cp:coreProperties>
</file>